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7.png" ContentType="image/png"/>
  <Override PartName="/ppt/media/image4.png" ContentType="image/png"/>
  <Override PartName="/ppt/media/image31.pct" ContentType="image/x-pict"/>
  <Override PartName="/ppt/media/image34.png" ContentType="image/png"/>
  <Override PartName="/ppt/media/image11.png" ContentType="image/png"/>
  <Override PartName="/ppt/media/image7.pct" ContentType="image/x-pict"/>
  <Override PartName="/ppt/media/image6.png" ContentType="image/png"/>
  <Override PartName="/ppt/media/image33.pct" ContentType="image/x-pict"/>
  <Override PartName="/ppt/media/image24.png" ContentType="image/png"/>
  <Override PartName="/ppt/media/image8.png" ContentType="image/png"/>
  <Override PartName="/ppt/media/image10.pct" ContentType="image/x-pict"/>
  <Override PartName="/ppt/media/image25.png" ContentType="image/png"/>
  <Override PartName="/ppt/media/image13.pct" ContentType="image/x-pict"/>
  <Override PartName="/ppt/media/image30.png" ContentType="image/png"/>
  <Override PartName="/ppt/media/image32.pct" ContentType="image/x-pict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2.pct" ContentType="image/x-pict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2D4A-5855-46B1-94F6-316F2DCD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F755-6193-4F23-97E5-C86EC2F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1CB3-3E34-455D-A964-2D3274E7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F89F-2BD5-4849-A56E-01D9057A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9A9-82FF-475F-8DAF-5705F4A2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54B7-93CA-45F8-BC82-44199F9A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DD3-437E-4AFF-A194-54A1BFC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436-B000-4BBF-B2C3-B549912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233-5329-4BCF-AE2D-F2C742F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67E-24EC-4F34-973C-CC71640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2F7-DA24-4D6D-8256-6957687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2CFA-C52F-4E06-A33A-F4F67920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C72B-A1B1-428B-AEB9-C2AD6E5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56E-D1B9-452F-860D-B282197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770B-77B8-417E-A325-1D532E1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5BE6-B9FF-4685-97B0-1BCF001C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D2C-43D6-4F4E-BF08-6E9F1B28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EE81-CECB-4062-9CB6-7C630177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81C6-BAA8-43F4-A780-B744CBF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1B90-3193-47A4-8AC0-4EEDCB1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4F89-3562-410E-B6D9-DAF78239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1BE4-5050-446C-9B45-78CCE4D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8ABC-0C2F-4014-8705-AE5B0A5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EB35-52EA-4814-9DE2-1F9570E1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41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19840" indent="-2656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7743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28520" indent="-25416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28304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12844-4774-4385-B718-874DC31249FD}" type="datetime">
              <a:rPr b="0" lang="en-US" sz="24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748E0-F8CB-43C5-898D-3234D67F4391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41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19840" indent="-2656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7743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28520" indent="-25416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28304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D7DBF-32BA-4E05-ACBD-ECD5FF9D8529}" type="datetime">
              <a:rPr b="0" lang="en-US" sz="24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2774D-E832-4EF4-AAF2-B352F6AB44EF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0.png"/><Relationship Id="rId4" Type="http://schemas.openxmlformats.org/officeDocument/2006/relationships/image" Target="../media/image31.pct"/><Relationship Id="rId5" Type="http://schemas.openxmlformats.org/officeDocument/2006/relationships/image" Target="../media/image32.pct"/><Relationship Id="rId6" Type="http://schemas.openxmlformats.org/officeDocument/2006/relationships/image" Target="../media/image33.pct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ct"/><Relationship Id="rId4" Type="http://schemas.openxmlformats.org/officeDocument/2006/relationships/image" Target="../media/image12.pct"/><Relationship Id="rId5" Type="http://schemas.openxmlformats.org/officeDocument/2006/relationships/image" Target="../media/image12.pct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9d9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60360" y="2603520"/>
            <a:ext cx="5132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nversion"/>
          <p:cNvPicPr/>
          <p:nvPr/>
        </p:nvPicPr>
        <p:blipFill>
          <a:blip r:embed="rId4"/>
          <a:srcRect l="0" t="8729" r="0" b="50006"/>
          <a:stretch/>
        </p:blipFill>
        <p:spPr>
          <a:xfrm>
            <a:off x="533520" y="3048120"/>
            <a:ext cx="78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dwb.unl.edu/Teacher/NSF/C08/C08Links/library.thinkquest.org/18258/media/translocation.gif"/>
          <p:cNvPicPr/>
          <p:nvPr/>
        </p:nvPicPr>
        <p:blipFill>
          <a:blip r:embed="rId4"/>
          <a:stretch/>
        </p:blipFill>
        <p:spPr>
          <a:xfrm>
            <a:off x="990720" y="304812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hromosomaldeletion"/>
          <p:cNvPicPr/>
          <p:nvPr/>
        </p:nvPicPr>
        <p:blipFill>
          <a:blip r:embed="rId4"/>
          <a:srcRect l="0" t="0" r="0" b="8356"/>
          <a:stretch/>
        </p:blipFill>
        <p:spPr>
          <a:xfrm>
            <a:off x="341280" y="2895480"/>
            <a:ext cx="826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48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Insertion (Duplication) - occurs when a gene sequence is repeated 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690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341280" y="152280"/>
            <a:ext cx="710244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2" descr=""/>
          <p:cNvPicPr/>
          <p:nvPr/>
        </p:nvPicPr>
        <p:blipFill>
          <a:blip r:embed="rId3"/>
          <a:stretch/>
        </p:blipFill>
        <p:spPr>
          <a:xfrm>
            <a:off x="341280" y="1447920"/>
            <a:ext cx="7102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uic.edu/classes/bios/bios100/lectf03am/nondisjunction.jpg"/>
          <p:cNvPicPr/>
          <p:nvPr/>
        </p:nvPicPr>
        <p:blipFill>
          <a:blip r:embed="rId2"/>
          <a:stretch/>
        </p:blipFill>
        <p:spPr>
          <a:xfrm>
            <a:off x="15228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724280" y="266688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41280" y="35812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341280" y="152280"/>
            <a:ext cx="710244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341280" y="1066680"/>
            <a:ext cx="7102440" cy="506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280" y="3084480"/>
            <a:ext cx="8497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49568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400800" y="5257800"/>
            <a:ext cx="1905120" cy="143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8840" y="83772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Any change in the DNA sequence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an have positive effects, negative effects, but usually has no effect (neutral)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utations that occur on sex cells may be passed on to offspring; mutations that occur in body cells cannot be passed on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utations happen regularly; many are repaired by enzymes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3840" y="339840"/>
            <a:ext cx="3147840" cy="1844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Mutagen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8840" y="2361960"/>
            <a:ext cx="7086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3000" indent="-243000">
              <a:lnSpc>
                <a:spcPct val="90000"/>
              </a:lnSpc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A substance or condition that causes an increase in the rate of mutation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43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Ex:  errors in replication, transcription, cell      division or by external agents such as: viruses, extreme high temperatures, industrial chemicals, pesticide, cigarette smoke, food additives, radiation, UV light, etc.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43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     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341280" y="0"/>
            <a:ext cx="710244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0" y="838080"/>
            <a:ext cx="6553080" cy="529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defiers.com/sc.jpg"/>
          <p:cNvPicPr/>
          <p:nvPr/>
        </p:nvPicPr>
        <p:blipFill>
          <a:blip r:embed="rId4"/>
          <a:stretch/>
        </p:blipFill>
        <p:spPr>
          <a:xfrm>
            <a:off x="6248520" y="1905120"/>
            <a:ext cx="283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members.cox.net/amgough/Mutation_frameshift-01_03_03d.jpg"/>
          <p:cNvPicPr/>
          <p:nvPr/>
        </p:nvPicPr>
        <p:blipFill>
          <a:blip r:embed="rId2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hromosome mutations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ay involve: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-changing the structure of a chromosome</a:t>
            </a:r>
            <a:endParaRPr b="0" lang="en-US" sz="2400" spc="-1" strike="noStrike">
              <a:solidFill>
                <a:srgbClr val="595959"/>
              </a:solidFill>
              <a:latin typeface="Eurostile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-the loss or gain of part of a chromosome</a:t>
            </a:r>
            <a:endParaRPr b="0" lang="en-US" sz="2400" spc="-1" strike="noStrike">
              <a:solidFill>
                <a:srgbClr val="595959"/>
              </a:solidFill>
              <a:latin typeface="Eurostile"/>
            </a:endParaRPr>
          </a:p>
        </p:txBody>
      </p:sp>
      <p:pic>
        <p:nvPicPr>
          <p:cNvPr id="110" name="Picture 5" descr="chromosome"/>
          <p:cNvPicPr/>
          <p:nvPr/>
        </p:nvPicPr>
        <p:blipFill>
          <a:blip r:embed="rId2"/>
          <a:srcRect l="0" t="0" r="31044" b="0"/>
          <a:stretch/>
        </p:blipFill>
        <p:spPr>
          <a:xfrm>
            <a:off x="6858000" y="685800"/>
            <a:ext cx="20574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04:29Z</dcterms:created>
  <dc:creator>Keith or Sherri Holmgren</dc:creator>
  <dc:description/>
  <dc:language>en-US</dc:language>
  <cp:lastModifiedBy>Clayton Johns</cp:lastModifiedBy>
  <dcterms:modified xsi:type="dcterms:W3CDTF">2010-02-02T15:48:41Z</dcterms:modified>
  <cp:revision>8</cp:revision>
  <dc:subject/>
  <dc:title>Genes, Chromosomes, &amp; Genetic Change</dc:title>
</cp:coreProperties>
</file>